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24.jpeg" ContentType="image/jpeg"/>
  <Override PartName="/ppt/media/image22.jpeg" ContentType="image/jpeg"/>
  <Override PartName="/ppt/media/image9.png" ContentType="image/png"/>
  <Override PartName="/ppt/media/image21.jpeg" ContentType="image/jpeg"/>
  <Override PartName="/ppt/media/image20.jpeg" ContentType="image/jpeg"/>
  <Override PartName="/ppt/media/image18.jpeg" ContentType="image/jpeg"/>
  <Override PartName="/ppt/media/image17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1.png" ContentType="image/png"/>
  <Override PartName="/ppt/media/image19.jpeg" ContentType="image/jpeg"/>
  <Override PartName="/ppt/media/image12.jpeg" ContentType="image/jpeg"/>
  <Override PartName="/ppt/media/image29.jpeg" ContentType="image/jpeg"/>
  <Override PartName="/ppt/media/image8.jpeg" ContentType="image/jpeg"/>
  <Override PartName="/ppt/media/image35.jpeg" ContentType="image/jpeg"/>
  <Override PartName="/ppt/media/image13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.gif" ContentType="image/gif"/>
  <Override PartName="/ppt/media/image36.jpeg" ContentType="image/jpeg"/>
  <Override PartName="/ppt/media/image2.jpeg" ContentType="image/jpeg"/>
  <Override PartName="/ppt/media/image23.jpeg" ContentType="image/jpeg"/>
  <Override PartName="/ppt/media/image1.png" ContentType="image/png"/>
  <Override PartName="/ppt/media/image10.jpeg" ContentType="image/jpeg"/>
  <Override PartName="/ppt/media/image14.png" ContentType="image/png"/>
  <Override PartName="/ppt/media/image15.jpeg" ContentType="image/jpeg"/>
  <Override PartName="/ppt/media/image1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E68AD-7405-4AB7-A395-BD5527899E6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sident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bin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ident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bi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merc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90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ducts Censu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nts patents and registers trademark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reau of the Censu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tional Trade Administra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lliam C. Redfield - 1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cretary of Commerce today is Carlos Gutierrez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erc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ducts Cens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nts patents and registers trademark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reau of the Cens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national Trade Administr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iam C. Redfield - 1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retary of Commerce today is Carlos Gutierrez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b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91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forces federal law on minimum wages, maximum hours, and safe working condit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SHA, Bureau of Labor Statistic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lliam B. Wilson - 1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cretary of Labor today is Elaine Cha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forces federal law on minimum wages, maximum hours, and safe working condi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HA, Bureau of Labor Statistic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iam B. Wilson - 1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retary of Labor today is Elaine Cha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alth and Huma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Services – 195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nds health care research program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forces pure food and drug ac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dicare and Medicai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od and Drug Admin and CD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tricia Harris - 1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cretary of HHS today is Michael O. Leavit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lth and Huma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Services – 19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ds health care research progra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forces pure food and drug a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dicare and Medicai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od and Drug Admin and CD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ricia Harris - 1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retary of HHS today is Michael O. Leavit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using and Urba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velopment - 196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perates home – financing and public housing program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forces fair housing law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fice of Hous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obert C. Weaver- 1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cretary of Housing today is Alphonso Jackson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using and Urba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elopment - 19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erates home – financing and public housing progra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forces fair housing law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fice of Hous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C. Weaver- 1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retary of Housing today is Alphonso Jackson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nsportatio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96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ministers programs to promote and regulate highways, mass transit, railroads and air trave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ederal Highway and Aviation Administra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an S. Boyd - 1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cretary of Transportation today is Mary Peter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portatio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ministers programs to promote and regulate highways, mass transit, railroads and air trave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deral Highway and Aviation Administr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an S. Boyd - 1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retary of Transportation today is Mary Pete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97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motes production of renewable energy, fossil fuels, and nuclear energ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ducts nuclear weapons research and produc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ames R. Schlesinger - 1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cretary of Energy today is Samuel W. Bodma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motes production of renewable energy, fossil fuels, and nuclear energ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ducts nuclear weapons research and produ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ames R. Schlesinger - 1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retary of Energy today is Samuel W. Bodma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ucatio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97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ministers federal aid to schools and conducts educational researc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fice of Elementary and Secondary Educa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irley Hufstedler  - 1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cretary of Education today is Margaret Spelling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ducatio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ministers federal aid to schools and conducts educational researc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fice of Elementary and Secondary Educ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irley Hufstedler  - 1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retary of Education today is Margaret Spelling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terans Affair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98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 ministries benefits, pensions, and medical programs for vetera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teran Benefits Admi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tional Cemetery Admi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ward J. Derwinski - 1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cretary of Veterans Affairs today is Jim Nichols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terans Affair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8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 ministries benefits, pensions, and medical programs for vetera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teran Benefits Adm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ional Cemetery Adm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dward J. Derwinski - 1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retary of Veterans Affairs today is Jim Nichols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meland Securit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0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rder and transportation securit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mergency preparedness and respon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ast Guard, TSA, and immigration servic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m Ridge – 1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cretary of Homeland Security today is Michael Chertoff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eland Securit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rder and transportation secu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ergency preparedness and respon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ast Guard, TSA, and immigration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m Ridge – 1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retary of Homeland Security today is Michael Chertoff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story of…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radition of the Cabinet dates back to the beginnings of the Presidency itself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e of the principal purposes of the Cabinet (drawn from Article II, Section 2 of the Constitution) is to advise the President on any subject he may require relating to the duties of their respective offic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story of…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radition of the Cabinet dates back to the beginnings of the Presidency itself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of the principal purposes of the Cabinet (drawn from Article II, Section 2 of the Constitution) is to advise the President on any subject he may require relating to the duties of their respective offic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ppointment to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resident nominates and the Senate must confirm the nomine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sident will usually reward loyal party members and may often select 1 position from the opposition part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ulticulturalism is often taken into considera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ointment to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esident nominates and the Senate must confirm the nomine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ident will usually reward loyal party members and may often select 1 position from the opposition par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culturalism is often taken into consider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t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78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vises President on foreign polic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gotiates treaties with foreign countri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fice of Passport Servic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omas Jefferson  - 1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cretary of State today is Condoleezza Ri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78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vises President on foreign polic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gotiates treaties with foreign count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fice of Passport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mas Jefferson  - 1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retary of State today is Condoleezza Ri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easury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78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duces coins and bills; collects tax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forces alcohol, tobacco and firearms law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rrows mone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RS and United States Mi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exander Hamilton  - 1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cretary of Treasury today is Henry Pauls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easury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78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es coins and bills; collects tax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forces alcohol, tobacco and firearms law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rrows mone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S and United States Mi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exander Hamilton  - 1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retary of Treasury today is Henry Pauls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ens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94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vides military forces to deter war and protect the nation’s  securit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oint Chiefs of Staff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partments of Navy, Army and Air For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nry Knox – 1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cretary of Defense today is Robert Gat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ens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vides military forces to deter war and protect the nation’s  secu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int Chiefs of Staff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artments of Navy, Army and Air For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nry Knox – 1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retary of Defense today is Robert Gat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ustic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178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secutes those accused of violating federal law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vides legal advice for Presid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presents US in cour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BI, DEA, ATF, US Marsha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mond Randolph – 1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torney General today is Alberto Gonzalez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stic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178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secutes those accused of violating federal la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vides legal advice for Presid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s US in cou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BI, DEA, ATF, US Marsh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dmond Randolph – 1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torney General today is Alberto Gonzalez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i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84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nages public lands, wildlife refuges, and national park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lps Native Americans manage their affai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 Fish and Wildlife Servi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tional park Servi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omas Ewing  - 1s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cretary of Interior today is Dirk Kempthorn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i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ages public lands, wildlife refuges, and national park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ps Native Americans manage their affai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 Fish and Wildlife Servi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ional park Servi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mas Ewing  - 1s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retary of Interior today is Dirk Kempthor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gricultur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88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nages national fores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spects foo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ministers food stamp and school lunch program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od and Nutrition Servi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rm Coleman- 1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cretary of Agriculture today is Mike Johan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ricultur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8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ages national fores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pects foo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ministers food stamp and school lunch progra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od and Nutrition Servi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 Coleman- 1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retary of Agriculture today is Mike Johan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28CCE-CEF3-4AAB-BFFF-8872D94E1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2F50E-EED8-46FD-98C8-84C9F0F90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5F2FD-872A-4419-AE56-0CED1AF9F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DA637-6B39-4D56-9767-281CE0926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92E5E-BEFA-46FC-8F81-5D26BF3AF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72CC6-AB5D-4493-94EE-B3C94F922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5C060-68D9-41BA-AA6B-27B00A998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3FB91-0836-497B-AA22-9B7EF3B96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B3AD0-F3E1-4940-8C33-BFAEF0D1E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C22A8-D517-40E5-A5B7-4FE24D29C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414A6-EB77-48CB-9305-3EB3980AD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B53FF-73BC-42A5-B2B6-23872CA20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73913-9838-48D2-8CC3-C159B04B46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jpeg"/><Relationship Id="rId3" Type="http://schemas.openxmlformats.org/officeDocument/2006/relationships/hyperlink" Target="http://www.whitehouse.gov/government/cabinet.html" TargetMode="External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state.gov/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ustreas.gov/" TargetMode="External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defenselink.mil/" TargetMode="External"/><Relationship Id="rId2" Type="http://schemas.openxmlformats.org/officeDocument/2006/relationships/image" Target="../media/image11.png"/><Relationship Id="rId3" Type="http://schemas.openxmlformats.org/officeDocument/2006/relationships/hyperlink" Target="http://www.whitehouse.gov/government/gates-bio.html" TargetMode="External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hyperlink" Target="http://www.usdoj.gov/" TargetMode="External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doi.gov/" TargetMode="External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Photo of the Presidential Seal"/>
          <p:cNvPicPr/>
          <p:nvPr/>
        </p:nvPicPr>
        <p:blipFill>
          <a:blip r:embed="rId1"/>
          <a:stretch/>
        </p:blipFill>
        <p:spPr>
          <a:xfrm>
            <a:off x="2514600" y="1295280"/>
            <a:ext cx="4317840" cy="4343400"/>
          </a:xfrm>
          <a:prstGeom prst="rect">
            <a:avLst/>
          </a:prstGeom>
          <a:ln w="0">
            <a:noFill/>
          </a:ln>
        </p:spPr>
      </p:pic>
      <p:sp>
        <p:nvSpPr>
          <p:cNvPr id="49" name="WordArt 6"/>
          <p:cNvSpPr txBox="1"/>
          <p:nvPr/>
        </p:nvSpPr>
        <p:spPr>
          <a:xfrm>
            <a:off x="1143000" y="152280"/>
            <a:ext cx="73152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Impact"/>
              </a:rPr>
              <a:t>Presidentia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Impact"/>
              <a:ea typeface="Impact"/>
            </a:endParaRPr>
          </a:p>
        </p:txBody>
      </p:sp>
      <p:sp>
        <p:nvSpPr>
          <p:cNvPr id="50" name="WordArt 7"/>
          <p:cNvSpPr txBox="1"/>
          <p:nvPr/>
        </p:nvSpPr>
        <p:spPr>
          <a:xfrm>
            <a:off x="2057400" y="5486400"/>
            <a:ext cx="52578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Impact"/>
              </a:rPr>
              <a:t>Cabinen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Impact"/>
              <a:ea typeface="Impact"/>
            </a:endParaRPr>
          </a:p>
        </p:txBody>
      </p:sp>
      <p:pic>
        <p:nvPicPr>
          <p:cNvPr id="51" name="Picture 11" descr="3dflagsdotcom_usa_2fawl"/>
          <p:cNvPicPr/>
          <p:nvPr/>
        </p:nvPicPr>
        <p:blipFill>
          <a:blip r:embed="rId2"/>
          <a:stretch/>
        </p:blipFill>
        <p:spPr>
          <a:xfrm>
            <a:off x="228600" y="1752480"/>
            <a:ext cx="1905120" cy="12985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3" descr="3dflagsdotcom_usa_2fawl"/>
          <p:cNvPicPr/>
          <p:nvPr/>
        </p:nvPicPr>
        <p:blipFill>
          <a:blip r:embed="rId3"/>
          <a:stretch/>
        </p:blipFill>
        <p:spPr>
          <a:xfrm>
            <a:off x="7162920" y="3962520"/>
            <a:ext cx="1981080" cy="1350720"/>
          </a:xfrm>
          <a:prstGeom prst="rect">
            <a:avLst/>
          </a:prstGeom>
          <a:ln w="0">
            <a:noFill/>
          </a:ln>
        </p:spPr>
      </p:pic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entury Schoolbook"/>
              </a:rPr>
              <a:t>Commerce </a:t>
            </a:r>
            <a:br>
              <a:rPr sz="4400"/>
            </a:br>
            <a:r>
              <a:rPr b="1" lang="en-US" sz="4400" spc="-1" strike="noStrike" u="sng">
                <a:solidFill>
                  <a:srgbClr val="000000"/>
                </a:solidFill>
                <a:uFillTx/>
                <a:latin typeface="Century Schoolbook"/>
              </a:rPr>
              <a:t>190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5486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ducts Censu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rants patents and registers trademark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ureau of the Censu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ernational Trad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lliam C. Redfiel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Secretary of Commerce today is Carlos Gutierrez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6" descr="Commerce"/>
          <p:cNvPicPr/>
          <p:nvPr/>
        </p:nvPicPr>
        <p:blipFill>
          <a:blip r:embed="rId1"/>
          <a:stretch/>
        </p:blipFill>
        <p:spPr>
          <a:xfrm>
            <a:off x="5791320" y="3200400"/>
            <a:ext cx="2859120" cy="36576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7" descr="doc_seal"/>
          <p:cNvPicPr/>
          <p:nvPr/>
        </p:nvPicPr>
        <p:blipFill>
          <a:blip r:embed="rId2"/>
          <a:stretch/>
        </p:blipFill>
        <p:spPr>
          <a:xfrm>
            <a:off x="6324480" y="457200"/>
            <a:ext cx="2819520" cy="2665440"/>
          </a:xfrm>
          <a:prstGeom prst="rect">
            <a:avLst/>
          </a:prstGeom>
          <a:ln w="0">
            <a:noFill/>
          </a:ln>
        </p:spPr>
      </p:pic>
      <p:sp>
        <p:nvSpPr>
          <p:cNvPr id="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Century Schoolbook"/>
              </a:rPr>
              <a:t>Labor </a:t>
            </a:r>
            <a:br>
              <a:rPr sz="4800"/>
            </a:br>
            <a:r>
              <a:rPr b="1" lang="en-US" sz="4000" spc="-1" strike="noStrike" u="sng">
                <a:solidFill>
                  <a:srgbClr val="000000"/>
                </a:solidFill>
                <a:uFillTx/>
                <a:latin typeface="Century Schoolbook"/>
              </a:rPr>
              <a:t>191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forces federal law on minimum wages, maximum hours, and safe working condi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SHA, Bureau of Labor Statistic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lliam B. Wilson -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Secretary of Labor today is Elaine Cha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6" descr="Chao"/>
          <p:cNvPicPr/>
          <p:nvPr/>
        </p:nvPicPr>
        <p:blipFill>
          <a:blip r:embed="rId1"/>
          <a:stretch/>
        </p:blipFill>
        <p:spPr>
          <a:xfrm>
            <a:off x="5486400" y="3200400"/>
            <a:ext cx="2859120" cy="36576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7" descr="labor- seal"/>
          <p:cNvPicPr/>
          <p:nvPr/>
        </p:nvPicPr>
        <p:blipFill>
          <a:blip r:embed="rId2"/>
          <a:stretch/>
        </p:blipFill>
        <p:spPr>
          <a:xfrm>
            <a:off x="6477120" y="533520"/>
            <a:ext cx="2666880" cy="2666880"/>
          </a:xfrm>
          <a:prstGeom prst="rect">
            <a:avLst/>
          </a:prstGeom>
          <a:ln w="0">
            <a:noFill/>
          </a:ln>
        </p:spPr>
      </p:pic>
      <p:sp>
        <p:nvSpPr>
          <p:cNvPr id="10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Century Schoolbook"/>
              </a:rPr>
              <a:t>Health and Human</a:t>
            </a:r>
            <a:br>
              <a:rPr sz="4000"/>
            </a:br>
            <a:r>
              <a:rPr b="1" lang="en-US" sz="4000" spc="-1" strike="noStrike" u="sng">
                <a:solidFill>
                  <a:srgbClr val="000000"/>
                </a:solidFill>
                <a:uFillTx/>
                <a:latin typeface="Century Schoolbook"/>
              </a:rPr>
              <a:t> Services – 195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5181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unds health care research progra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forces pure food and drug a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dicare and Medicai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od and Drug Admin and CD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tricia Harris -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baseline="30000">
                <a:solidFill>
                  <a:srgbClr val="ff0000"/>
                </a:solidFill>
                <a:latin typeface="Arial"/>
              </a:rPr>
              <a:t>Secretary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 of HHS today is Michael O. Leavit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7" descr="HHS"/>
          <p:cNvPicPr/>
          <p:nvPr/>
        </p:nvPicPr>
        <p:blipFill>
          <a:blip r:embed="rId1"/>
          <a:stretch/>
        </p:blipFill>
        <p:spPr>
          <a:xfrm>
            <a:off x="5410080" y="3581280"/>
            <a:ext cx="2621160" cy="32767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0" descr="hhs-1 seal"/>
          <p:cNvPicPr/>
          <p:nvPr/>
        </p:nvPicPr>
        <p:blipFill>
          <a:blip r:embed="rId2"/>
          <a:stretch/>
        </p:blipFill>
        <p:spPr>
          <a:xfrm>
            <a:off x="6705720" y="1143000"/>
            <a:ext cx="2438280" cy="2438280"/>
          </a:xfrm>
          <a:prstGeom prst="rect">
            <a:avLst/>
          </a:prstGeom>
          <a:ln w="0">
            <a:noFill/>
          </a:ln>
        </p:spPr>
      </p:pic>
      <p:sp>
        <p:nvSpPr>
          <p:cNvPr id="1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entury Schoolbook"/>
              </a:rPr>
              <a:t>Housing and Urban</a:t>
            </a:r>
            <a:br>
              <a:rPr sz="4400"/>
            </a:br>
            <a:r>
              <a:rPr b="1" lang="en-US" sz="4400" spc="-1" strike="noStrike" u="sng">
                <a:solidFill>
                  <a:srgbClr val="000000"/>
                </a:solidFill>
                <a:uFillTx/>
                <a:latin typeface="Century Schoolbook"/>
              </a:rPr>
              <a:t>Development - 196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240" y="1752480"/>
            <a:ext cx="5334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perates home – financing and public housing progra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forces fair housing law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ffice of Hous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obert C. Weaver-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Secretary of Housing today is Alphonso Jackson.</a:t>
            </a:r>
            <a:br>
              <a:rPr sz="2800"/>
            </a:b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6" descr="seal_HUD"/>
          <p:cNvPicPr/>
          <p:nvPr/>
        </p:nvPicPr>
        <p:blipFill>
          <a:blip r:embed="rId1"/>
          <a:stretch/>
        </p:blipFill>
        <p:spPr>
          <a:xfrm>
            <a:off x="6553080" y="1447920"/>
            <a:ext cx="2257560" cy="22572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7" descr="HUD"/>
          <p:cNvPicPr/>
          <p:nvPr/>
        </p:nvPicPr>
        <p:blipFill>
          <a:blip r:embed="rId2"/>
          <a:stretch/>
        </p:blipFill>
        <p:spPr>
          <a:xfrm>
            <a:off x="5791320" y="3733920"/>
            <a:ext cx="2441520" cy="3124080"/>
          </a:xfrm>
          <a:prstGeom prst="rect">
            <a:avLst/>
          </a:prstGeom>
          <a:ln w="0">
            <a:noFill/>
          </a:ln>
        </p:spPr>
      </p:pic>
      <p:sp>
        <p:nvSpPr>
          <p:cNvPr id="1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Century Schoolbook"/>
              </a:rPr>
              <a:t>Transportation </a:t>
            </a:r>
            <a:br>
              <a:rPr sz="4000"/>
            </a:br>
            <a:r>
              <a:rPr b="1" lang="en-US" sz="4000" spc="-1" strike="noStrike" u="sng">
                <a:solidFill>
                  <a:srgbClr val="000000"/>
                </a:solidFill>
                <a:uFillTx/>
                <a:latin typeface="Century Schoolbook"/>
              </a:rPr>
              <a:t>196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ministers programs to promote and regulate highways, mass transit, railroads and air trave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ederal Highway and Aviation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an S. Boyd -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Secretary of Transportation today is Mary Peter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7" descr="Trans seal"/>
          <p:cNvPicPr/>
          <p:nvPr/>
        </p:nvPicPr>
        <p:blipFill>
          <a:blip r:embed="rId1"/>
          <a:stretch/>
        </p:blipFill>
        <p:spPr>
          <a:xfrm>
            <a:off x="6632640" y="838080"/>
            <a:ext cx="2511360" cy="24955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2" descr="Mary Peters"/>
          <p:cNvPicPr/>
          <p:nvPr/>
        </p:nvPicPr>
        <p:blipFill>
          <a:blip r:embed="rId2"/>
          <a:stretch/>
        </p:blipFill>
        <p:spPr>
          <a:xfrm>
            <a:off x="6019920" y="3505320"/>
            <a:ext cx="2619360" cy="3352680"/>
          </a:xfrm>
          <a:prstGeom prst="rect">
            <a:avLst/>
          </a:prstGeom>
          <a:ln w="0">
            <a:noFill/>
          </a:ln>
        </p:spPr>
      </p:pic>
      <p:sp>
        <p:nvSpPr>
          <p:cNvPr id="11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Century Schoolbook"/>
              </a:rPr>
              <a:t>Energy </a:t>
            </a:r>
            <a:br>
              <a:rPr sz="4000"/>
            </a:br>
            <a:r>
              <a:rPr b="1" lang="en-US" sz="4000" spc="-1" strike="noStrike" u="sng">
                <a:solidFill>
                  <a:srgbClr val="000000"/>
                </a:solidFill>
                <a:uFillTx/>
                <a:latin typeface="Century Schoolbook"/>
              </a:rPr>
              <a:t>197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5105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motes production of renewable energy, fossil fuels, and nuclear energ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ducts nuclear weapons research and produ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ames R. Schlesinge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Secretary of Energy today is Samuel W. Bodma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6" descr="energy"/>
          <p:cNvPicPr/>
          <p:nvPr/>
        </p:nvPicPr>
        <p:blipFill>
          <a:blip r:embed="rId1"/>
          <a:stretch/>
        </p:blipFill>
        <p:spPr>
          <a:xfrm>
            <a:off x="5562720" y="3124080"/>
            <a:ext cx="2917800" cy="37339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7" descr="energy- seal"/>
          <p:cNvPicPr/>
          <p:nvPr/>
        </p:nvPicPr>
        <p:blipFill>
          <a:blip r:embed="rId2"/>
          <a:stretch/>
        </p:blipFill>
        <p:spPr>
          <a:xfrm>
            <a:off x="6172200" y="304920"/>
            <a:ext cx="2743200" cy="2720880"/>
          </a:xfrm>
          <a:prstGeom prst="rect">
            <a:avLst/>
          </a:prstGeom>
          <a:ln w="0">
            <a:noFill/>
          </a:ln>
        </p:spPr>
      </p:pic>
      <p:sp>
        <p:nvSpPr>
          <p:cNvPr id="1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Century Schoolbook"/>
              </a:rPr>
              <a:t>Education </a:t>
            </a:r>
            <a:br>
              <a:rPr sz="4000"/>
            </a:br>
            <a:r>
              <a:rPr b="1" lang="en-US" sz="4000" spc="-1" strike="noStrike" u="sng">
                <a:solidFill>
                  <a:srgbClr val="000000"/>
                </a:solidFill>
                <a:uFillTx/>
                <a:latin typeface="Century Schoolbook"/>
              </a:rPr>
              <a:t>197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876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ministers federal aid to schools and conducts educational researc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ffice of Elementary and Secondary Educ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hirley Hufstedl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-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Secretary of Education today is Margaret Spelling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6" descr="Edu"/>
          <p:cNvPicPr/>
          <p:nvPr/>
        </p:nvPicPr>
        <p:blipFill>
          <a:blip r:embed="rId1"/>
          <a:stretch/>
        </p:blipFill>
        <p:spPr>
          <a:xfrm>
            <a:off x="5562720" y="3276720"/>
            <a:ext cx="2800080" cy="35812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7" descr="education seal"/>
          <p:cNvPicPr/>
          <p:nvPr/>
        </p:nvPicPr>
        <p:blipFill>
          <a:blip r:embed="rId2"/>
          <a:stretch/>
        </p:blipFill>
        <p:spPr>
          <a:xfrm>
            <a:off x="6362640" y="380880"/>
            <a:ext cx="2781360" cy="2781360"/>
          </a:xfrm>
          <a:prstGeom prst="rect">
            <a:avLst/>
          </a:prstGeom>
          <a:ln w="0">
            <a:noFill/>
          </a:ln>
        </p:spPr>
      </p:pic>
      <p:sp>
        <p:nvSpPr>
          <p:cNvPr id="12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Century Schoolbook"/>
              </a:rPr>
              <a:t>Veterans Affairs </a:t>
            </a:r>
            <a:br>
              <a:rPr sz="4000"/>
            </a:br>
            <a:r>
              <a:rPr b="1" lang="en-US" sz="4000" spc="-1" strike="noStrike" u="sng">
                <a:solidFill>
                  <a:srgbClr val="000000"/>
                </a:solidFill>
                <a:uFillTx/>
                <a:latin typeface="Century Schoolbook"/>
              </a:rPr>
              <a:t>198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181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 ministries benefits, pensions, and medical programs for vetera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eteran Benefits Adm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ational Cemetery Adm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dward J. Derwinski -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Secretary of Veterans Affairs today is Jim Nicholson</a:t>
            </a: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6" descr="VA - seal"/>
          <p:cNvPicPr/>
          <p:nvPr/>
        </p:nvPicPr>
        <p:blipFill>
          <a:blip r:embed="rId1"/>
          <a:stretch/>
        </p:blipFill>
        <p:spPr>
          <a:xfrm>
            <a:off x="6400800" y="838080"/>
            <a:ext cx="2743200" cy="26924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7" descr="VA"/>
          <p:cNvPicPr/>
          <p:nvPr/>
        </p:nvPicPr>
        <p:blipFill>
          <a:blip r:embed="rId2"/>
          <a:stretch/>
        </p:blipFill>
        <p:spPr>
          <a:xfrm>
            <a:off x="5715000" y="3429000"/>
            <a:ext cx="2679840" cy="3429000"/>
          </a:xfrm>
          <a:prstGeom prst="rect">
            <a:avLst/>
          </a:prstGeom>
          <a:ln w="0">
            <a:noFill/>
          </a:ln>
        </p:spPr>
      </p:pic>
      <p:sp>
        <p:nvSpPr>
          <p:cNvPr id="13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Century Schoolbook"/>
              </a:rPr>
              <a:t>Homeland Security</a:t>
            </a:r>
            <a:br>
              <a:rPr sz="4000"/>
            </a:br>
            <a:r>
              <a:rPr b="1" lang="en-US" sz="4000" spc="-1" strike="noStrike" u="sng">
                <a:solidFill>
                  <a:srgbClr val="000000"/>
                </a:solidFill>
                <a:uFillTx/>
                <a:latin typeface="Century Schoolbook"/>
              </a:rPr>
              <a:t>200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order and transportation secur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mergency preparedness and respon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ast Guard, TSA, and immigration servic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m Ridge –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Secretary of Homeland Security today is Michael Chertoff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6" descr="HS"/>
          <p:cNvPicPr/>
          <p:nvPr/>
        </p:nvPicPr>
        <p:blipFill>
          <a:blip r:embed="rId1"/>
          <a:stretch/>
        </p:blipFill>
        <p:spPr>
          <a:xfrm>
            <a:off x="5943600" y="3657600"/>
            <a:ext cx="2560680" cy="32004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7" descr="HS seal"/>
          <p:cNvPicPr/>
          <p:nvPr/>
        </p:nvPicPr>
        <p:blipFill>
          <a:blip r:embed="rId2"/>
          <a:stretch/>
        </p:blipFill>
        <p:spPr>
          <a:xfrm>
            <a:off x="6400800" y="838080"/>
            <a:ext cx="2743200" cy="2743200"/>
          </a:xfrm>
          <a:prstGeom prst="rect">
            <a:avLst/>
          </a:prstGeom>
          <a:ln w="0">
            <a:noFill/>
          </a:ln>
        </p:spPr>
      </p:pic>
      <p:sp>
        <p:nvSpPr>
          <p:cNvPr id="13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Century Schoolbook"/>
              </a:rPr>
              <a:t>History of…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The tradition of the Cabinet dates back to the beginnings of the Presidency itself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One of the principal purposes of the Cabinet (drawn from Article II, Section 2 of the Constitution) is to advise the President on any subject he may require relating to the duties of their respective offices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8" descr="Copies of the energy report are resting on the table in the Cabinet Room. White House photo by David Bohrer."/>
          <p:cNvPicPr/>
          <p:nvPr/>
        </p:nvPicPr>
        <p:blipFill>
          <a:blip r:embed="rId1"/>
          <a:stretch/>
        </p:blipFill>
        <p:spPr>
          <a:xfrm>
            <a:off x="0" y="3962520"/>
            <a:ext cx="4343400" cy="28954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0" descr="bushcabinet525"/>
          <p:cNvPicPr/>
          <p:nvPr/>
        </p:nvPicPr>
        <p:blipFill>
          <a:blip r:embed="rId2"/>
          <a:stretch/>
        </p:blipFill>
        <p:spPr>
          <a:xfrm>
            <a:off x="4800600" y="3962520"/>
            <a:ext cx="4343400" cy="2895480"/>
          </a:xfrm>
          <a:prstGeom prst="rect">
            <a:avLst/>
          </a:prstGeom>
          <a:ln w="0">
            <a:noFill/>
          </a:ln>
        </p:spPr>
      </p:pic>
      <p:sp>
        <p:nvSpPr>
          <p:cNvPr id="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Appointment to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5029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The President nominates and the Senate must confirm the nomine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resident will usually reward loyal party members and may often select 1 position from the opposition par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ulticulturalism is often taken into conside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7" descr="President George W. Bush"/>
          <p:cNvPicPr/>
          <p:nvPr/>
        </p:nvPicPr>
        <p:blipFill>
          <a:blip r:embed="rId1"/>
          <a:stretch/>
        </p:blipFill>
        <p:spPr>
          <a:xfrm>
            <a:off x="5410080" y="2057400"/>
            <a:ext cx="3535560" cy="48006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0" descr="Photo of the Presidential Seal"/>
          <p:cNvPicPr/>
          <p:nvPr/>
        </p:nvPicPr>
        <p:blipFill>
          <a:blip r:embed="rId2"/>
          <a:stretch/>
        </p:blipFill>
        <p:spPr>
          <a:xfrm>
            <a:off x="0" y="0"/>
            <a:ext cx="1819440" cy="18288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2" descr="Photo of the Presidential Seal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250040" y="0"/>
            <a:ext cx="1893960" cy="1905120"/>
          </a:xfrm>
          <a:prstGeom prst="rect">
            <a:avLst/>
          </a:prstGeom>
          <a:ln w="0">
            <a:noFill/>
          </a:ln>
        </p:spPr>
      </p:pic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Century Schoolbook"/>
              </a:rPr>
              <a:t>State </a:t>
            </a:r>
            <a:br>
              <a:rPr sz="4800"/>
            </a:br>
            <a:r>
              <a:rPr b="1" lang="en-US" sz="4000" spc="-1" strike="noStrike" u="sng">
                <a:solidFill>
                  <a:srgbClr val="000000"/>
                </a:solidFill>
                <a:uFillTx/>
                <a:latin typeface="Century Schoolbook"/>
              </a:rPr>
              <a:t>178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vises President on foreign polic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gotiates treaties with foreign countr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ffice of Passport Servic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omas Jefferson  -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Secretary of State today is Condoleezza R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7" descr="State"/>
          <p:cNvPicPr/>
          <p:nvPr/>
        </p:nvPicPr>
        <p:blipFill>
          <a:blip r:embed="rId1"/>
          <a:stretch/>
        </p:blipFill>
        <p:spPr>
          <a:xfrm>
            <a:off x="5181480" y="3429000"/>
            <a:ext cx="2560680" cy="32767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8" descr="State - seal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400800" y="380880"/>
            <a:ext cx="2743200" cy="2743200"/>
          </a:xfrm>
          <a:prstGeom prst="rect">
            <a:avLst/>
          </a:prstGeom>
          <a:ln w="0">
            <a:noFill/>
          </a:ln>
        </p:spPr>
      </p:pic>
      <p:sp>
        <p:nvSpPr>
          <p:cNvPr id="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Century Schoolbook"/>
              </a:rPr>
              <a:t>Treasury </a:t>
            </a:r>
            <a:br>
              <a:rPr sz="4800"/>
            </a:br>
            <a:r>
              <a:rPr b="1" lang="en-US" sz="4000" spc="-1" strike="noStrike" u="sng">
                <a:solidFill>
                  <a:srgbClr val="000000"/>
                </a:solidFill>
                <a:uFillTx/>
                <a:latin typeface="Century Schoolbook"/>
              </a:rPr>
              <a:t>178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5181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duces coins and bills; collects tax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forces alcohol, tobacco and firearms law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orrows mone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RS and United States Mi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exander Hamilton  -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Secretary of Treasury today is Henry Pauls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7" descr="treasure seal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324480" y="533520"/>
            <a:ext cx="2590920" cy="25905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2" descr="Henry M. Paulson, Jr."/>
          <p:cNvPicPr/>
          <p:nvPr/>
        </p:nvPicPr>
        <p:blipFill>
          <a:blip r:embed="rId3"/>
          <a:stretch/>
        </p:blipFill>
        <p:spPr>
          <a:xfrm>
            <a:off x="5867280" y="3276720"/>
            <a:ext cx="2560680" cy="3276360"/>
          </a:xfrm>
          <a:prstGeom prst="rect">
            <a:avLst/>
          </a:prstGeom>
          <a:ln w="0">
            <a:noFill/>
          </a:ln>
        </p:spPr>
      </p:pic>
      <p:sp>
        <p:nvSpPr>
          <p:cNvPr id="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Century Schoolbook"/>
              </a:rPr>
              <a:t>Defense </a:t>
            </a:r>
            <a:br>
              <a:rPr sz="4800"/>
            </a:br>
            <a:r>
              <a:rPr b="1" lang="en-US" sz="4000" spc="-1" strike="noStrike" u="sng">
                <a:solidFill>
                  <a:srgbClr val="000000"/>
                </a:solidFill>
                <a:uFillTx/>
                <a:latin typeface="Century Schoolbook"/>
              </a:rPr>
              <a:t>194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952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vides military forces to deter war and protect the nation’s  secur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oint Chiefs of Staff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partments of Navy, Army and Air For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nry Knox –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Secretary of Defense today is Robert Ga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6" descr="Def Seal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95880" y="685800"/>
            <a:ext cx="2514600" cy="25146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4" descr="Photo of Robert M. Gates, Secretary of Defens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791320" y="3276720"/>
            <a:ext cx="2865240" cy="3581280"/>
          </a:xfrm>
          <a:prstGeom prst="rect">
            <a:avLst/>
          </a:prstGeom>
          <a:ln w="0">
            <a:noFill/>
          </a:ln>
        </p:spPr>
      </p:pic>
      <p:sp>
        <p:nvSpPr>
          <p:cNvPr id="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Century Schoolbook"/>
              </a:rPr>
              <a:t>Justic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Century Schoolbook"/>
              </a:rPr>
              <a:t>178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5562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secutes those accused of violating federal la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vides legal advice for Presi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presents US in cou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BI, DEA, ATF, US Marsha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dmond Randolph –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Attorney General today is Alberto Gonzalez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6" descr="Justice"/>
          <p:cNvPicPr/>
          <p:nvPr/>
        </p:nvPicPr>
        <p:blipFill>
          <a:blip r:embed="rId1"/>
          <a:stretch/>
        </p:blipFill>
        <p:spPr>
          <a:xfrm>
            <a:off x="5824440" y="3124080"/>
            <a:ext cx="2917800" cy="3733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7" descr="Seal_Dept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095880" y="228600"/>
            <a:ext cx="2895840" cy="2855880"/>
          </a:xfrm>
          <a:prstGeom prst="rect">
            <a:avLst/>
          </a:prstGeom>
          <a:ln w="0">
            <a:noFill/>
          </a:ln>
        </p:spPr>
      </p:pic>
      <p:sp>
        <p:nvSpPr>
          <p:cNvPr id="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Century Schoolbook"/>
              </a:rPr>
              <a:t>Interior</a:t>
            </a:r>
            <a:r>
              <a:rPr b="1" lang="en-US" sz="4400" spc="-1" strike="noStrike" u="sng">
                <a:solidFill>
                  <a:srgbClr val="000000"/>
                </a:solidFill>
                <a:uFillTx/>
                <a:latin typeface="Century Schoolbook"/>
              </a:rPr>
              <a:t> </a:t>
            </a:r>
            <a:br>
              <a:rPr sz="4400"/>
            </a:br>
            <a:r>
              <a:rPr b="1" lang="en-US" sz="4000" spc="-1" strike="noStrike" u="sng">
                <a:solidFill>
                  <a:srgbClr val="000000"/>
                </a:solidFill>
                <a:uFillTx/>
                <a:latin typeface="Century Schoolbook"/>
              </a:rPr>
              <a:t>184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5715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nages public lands, wildlife refuges, and national park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lps Native Americans manage their affai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S Fish and Wildlife Serv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ational park Serv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omas Ewing  -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Secretary of Interior today is Dirk Kempthor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7" descr="interior-1 seal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72200" y="609480"/>
            <a:ext cx="2743200" cy="27432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2" descr="Dirk Kempthorne"/>
          <p:cNvPicPr/>
          <p:nvPr/>
        </p:nvPicPr>
        <p:blipFill>
          <a:blip r:embed="rId3"/>
          <a:stretch/>
        </p:blipFill>
        <p:spPr>
          <a:xfrm>
            <a:off x="6172200" y="3429000"/>
            <a:ext cx="2679840" cy="3429000"/>
          </a:xfrm>
          <a:prstGeom prst="rect">
            <a:avLst/>
          </a:prstGeom>
          <a:ln w="0">
            <a:noFill/>
          </a:ln>
        </p:spPr>
      </p:pic>
      <p:sp>
        <p:nvSpPr>
          <p:cNvPr id="8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entury Schoolbook"/>
              </a:rPr>
              <a:t>Agriculture </a:t>
            </a:r>
            <a:br>
              <a:rPr sz="4400"/>
            </a:br>
            <a:r>
              <a:rPr b="1" lang="en-US" sz="4400" spc="-1" strike="noStrike" u="sng">
                <a:solidFill>
                  <a:srgbClr val="000000"/>
                </a:solidFill>
                <a:uFillTx/>
                <a:latin typeface="Century Schoolbook"/>
              </a:rPr>
              <a:t>188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5486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nages national fores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pects fo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ministers food stamp and school lunch progra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od and Nutrition Serv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rm Coleman-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Secretary of Agriculture today is Mike Johann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6" descr="agriculture-1 seal"/>
          <p:cNvPicPr/>
          <p:nvPr/>
        </p:nvPicPr>
        <p:blipFill>
          <a:blip r:embed="rId1"/>
          <a:stretch/>
        </p:blipFill>
        <p:spPr>
          <a:xfrm>
            <a:off x="6400800" y="685800"/>
            <a:ext cx="2550960" cy="25909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7" descr="Agrric"/>
          <p:cNvPicPr/>
          <p:nvPr/>
        </p:nvPicPr>
        <p:blipFill>
          <a:blip r:embed="rId2"/>
          <a:stretch/>
        </p:blipFill>
        <p:spPr>
          <a:xfrm>
            <a:off x="5867280" y="3429000"/>
            <a:ext cx="2679840" cy="3429000"/>
          </a:xfrm>
          <a:prstGeom prst="rect">
            <a:avLst/>
          </a:prstGeom>
          <a:ln w="0">
            <a:noFill/>
          </a:ln>
        </p:spPr>
      </p:pic>
      <p:sp>
        <p:nvSpPr>
          <p:cNvPr id="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8T16:20:46Z</dcterms:created>
  <dc:creator>dgreenbe</dc:creator>
  <dc:description/>
  <dc:language>en-US</dc:language>
  <cp:lastModifiedBy>Legion</cp:lastModifiedBy>
  <dcterms:modified xsi:type="dcterms:W3CDTF">2017-07-05T12:38:04Z</dcterms:modified>
  <cp:revision>71</cp:revision>
  <dc:subject/>
  <dc:title>Slide 1</dc:title>
</cp:coreProperties>
</file>